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B8E-2F69-482F-9BA4-EBEEB39A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2C8-7669-469A-A7D6-9E7804B7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6FB-5B15-435A-BC39-310FA2AC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329-6975-49A1-8EA2-471548FC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24A-885D-4690-A093-B11EE74F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AF6-A228-4DF4-B76A-1F17A98E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3B6-C815-4AF8-9824-5BB6DB4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20A-D893-4498-A2B7-98E30F44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BB5-0E2E-4057-B68A-2AF8D43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5AC-8FB0-4BA1-B978-1F67A5F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90B-DC53-4649-B5A2-E008F1A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115-CED8-4990-A0EA-A0E077F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6765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March 24,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53000"/>
            <a:ext cx="5029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b2b2b2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MIPS SIG Discu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53000"/>
            <a:ext cx="11430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b2b2b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A7A-9D2B-4ED9-B1A9-EF4AC7823953}" type="slidenum">
              <a:rPr b="0" lang="ja-JP" sz="1400" spc="-1" strike="noStrike">
                <a:solidFill>
                  <a:srgbClr val="b2b2b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ELF Japan Technical Jamboree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IPS SIG Discus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arch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 Jamboree #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. Ueda / S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oru.Ueda(a)jp.son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D31-857A-47B0-BF32-18A652C09B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o assign a technical liaison between their development team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vind@mip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. Arvind 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o consider seriously to have BOF session in the Worldwide Embedded Linux Conferenc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expect many key developers on MIPS will be there to discuss with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hould be a very good opportunity to discuss about the technical development on M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7DA-0539-41EF-AD06-C11DFC0B6F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roposal to CELF memb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our technical development subject into the B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’s form the development project together with MIP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Jap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’s have pre-discussion in the next Japan Jambo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ch (Tok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xpected technical discussion item list for the B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E91-B32B-4977-AD47-FDEFBE7A71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13360"/>
            <a:ext cx="914400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557360"/>
            <a:ext cx="7777080" cy="2879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osition of CEL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147040" y="1916280"/>
            <a:ext cx="196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Us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7760" y="3141720"/>
            <a:ext cx="196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Us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39440" y="191628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Enterpri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24000" y="1773360"/>
            <a:ext cx="5903640" cy="3999240"/>
            <a:chOff x="324000" y="1773360"/>
            <a:chExt cx="5903640" cy="3999240"/>
          </a:xfrm>
        </p:grpSpPr>
        <p:sp>
          <p:nvSpPr>
            <p:cNvPr id="52" name=""/>
            <p:cNvSpPr/>
            <p:nvPr/>
          </p:nvSpPr>
          <p:spPr>
            <a:xfrm>
              <a:off x="3132000" y="1773360"/>
              <a:ext cx="3095640" cy="367164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369000">
              <a:off x="2539800" y="1781280"/>
              <a:ext cx="1154160" cy="2376360"/>
            </a:xfrm>
            <a:prstGeom prst="triangle">
              <a:avLst>
                <a:gd name="adj" fmla="val 4273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5373720"/>
              <a:ext cx="3097080" cy="398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Embedded Techn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369000">
              <a:off x="2916000" y="3063960"/>
              <a:ext cx="558720" cy="1670040"/>
            </a:xfrm>
            <a:prstGeom prst="triangle">
              <a:avLst>
                <a:gd name="adj" fmla="val 4273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80" y="2924280"/>
              <a:ext cx="2178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  <a:ea typeface="ＭＳ Ｐゴシック"/>
                </a:rPr>
                <a:t>CE Produ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640" y="4149720"/>
              <a:ext cx="2952720" cy="934920"/>
            </a:xfrm>
            <a:prstGeom prst="rightArrow">
              <a:avLst>
                <a:gd name="adj1" fmla="val 50000"/>
                <a:gd name="adj2" fmla="val 78956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  <a:ea typeface="ＭＳ Ｐゴシック"/>
                </a:rPr>
                <a:t>CE Linux Fo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004480" y="1844640"/>
            <a:ext cx="6129000" cy="4422960"/>
            <a:chOff x="2004480" y="1844640"/>
            <a:chExt cx="6129000" cy="4422960"/>
          </a:xfrm>
        </p:grpSpPr>
        <p:sp>
          <p:nvSpPr>
            <p:cNvPr id="59" name=""/>
            <p:cNvSpPr/>
            <p:nvPr/>
          </p:nvSpPr>
          <p:spPr>
            <a:xfrm rot="3198600">
              <a:off x="5182560" y="1954800"/>
              <a:ext cx="1081080" cy="230184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6320" y="5302080"/>
              <a:ext cx="3073320" cy="648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04480" y="5899320"/>
              <a:ext cx="6129000" cy="36828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Technologies from the Enterprise System business p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369000">
              <a:off x="2877840" y="2169720"/>
              <a:ext cx="1081080" cy="230364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4000" y="1844640"/>
              <a:ext cx="2592360" cy="367200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Lin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Main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49080" y="342900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4360" y="309240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BF1-E530-4195-89F0-69744DEBDCD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872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trix Eff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Observed in CEL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060640"/>
            <a:ext cx="7777080" cy="4176720"/>
          </a:xfrm>
          <a:prstGeom prst="roundRect">
            <a:avLst>
              <a:gd name="adj" fmla="val 7398"/>
            </a:avLst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0360" y="1773360"/>
            <a:ext cx="20491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E Linux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76360" y="2133360"/>
            <a:ext cx="7272360" cy="4040280"/>
            <a:chOff x="1476360" y="2133360"/>
            <a:chExt cx="7272360" cy="4040280"/>
          </a:xfrm>
        </p:grpSpPr>
        <p:sp>
          <p:nvSpPr>
            <p:cNvPr id="70" name=""/>
            <p:cNvSpPr/>
            <p:nvPr/>
          </p:nvSpPr>
          <p:spPr>
            <a:xfrm flipV="1">
              <a:off x="702144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23744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45344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149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365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81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48436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70036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91636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3200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360" y="5805360"/>
              <a:ext cx="6335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Semiconductor Technology Special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27280" y="2349360"/>
            <a:ext cx="6194520" cy="3248280"/>
            <a:chOff x="2627280" y="2349360"/>
            <a:chExt cx="6194520" cy="3248280"/>
          </a:xfrm>
        </p:grpSpPr>
        <p:sp>
          <p:nvSpPr>
            <p:cNvPr id="82" name=""/>
            <p:cNvSpPr/>
            <p:nvPr/>
          </p:nvSpPr>
          <p:spPr>
            <a:xfrm>
              <a:off x="7093080" y="2349360"/>
              <a:ext cx="1728720" cy="3167280"/>
            </a:xfrm>
            <a:custGeom>
              <a:avLst/>
              <a:gdLst>
                <a:gd name="textAreaLeft" fmla="*/ 37440 w 1728720"/>
                <a:gd name="textAreaRight" fmla="*/ 1691280 w 1728720"/>
                <a:gd name="textAreaTop" fmla="*/ 37440 h 3167280"/>
                <a:gd name="textAreaBottom" fmla="*/ 3129840 h 3167280"/>
              </a:gdLst>
              <a:ahLst/>
              <a:rect l="textAreaLeft" t="textAreaTop" r="textAreaRight" b="textAreaBottom"/>
              <a:pathLst>
                <a:path w="21600" h="39571">
                  <a:moveTo>
                    <a:pt x="1598" y="0"/>
                  </a:moveTo>
                  <a:arcTo wR="1598" hR="1598" stAng="16200000" swAng="-5400000"/>
                  <a:lnTo>
                    <a:pt x="0" y="37973"/>
                  </a:lnTo>
                  <a:arcTo wR="1598" hR="1598" stAng="10800000" swAng="-5400000"/>
                  <a:lnTo>
                    <a:pt x="20002" y="39571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4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9640" y="2349360"/>
              <a:ext cx="1657440" cy="3167280"/>
            </a:xfrm>
            <a:custGeom>
              <a:avLst/>
              <a:gdLst>
                <a:gd name="textAreaLeft" fmla="*/ 35640 w 1657440"/>
                <a:gd name="textAreaRight" fmla="*/ 1621800 w 1657440"/>
                <a:gd name="textAreaTop" fmla="*/ 35640 h 3167280"/>
                <a:gd name="textAreaBottom" fmla="*/ 3131640 h 3167280"/>
              </a:gdLst>
              <a:ahLst/>
              <a:rect l="textAreaLeft" t="textAreaTop" r="textAreaRight" b="textAreaBottom"/>
              <a:pathLst>
                <a:path w="21600" h="41272">
                  <a:moveTo>
                    <a:pt x="1598" y="0"/>
                  </a:moveTo>
                  <a:arcTo wR="1598" hR="1598" stAng="16200000" swAng="-5400000"/>
                  <a:lnTo>
                    <a:pt x="0" y="39674"/>
                  </a:lnTo>
                  <a:arcTo wR="1598" hR="1598" stAng="10800000" swAng="-5400000"/>
                  <a:lnTo>
                    <a:pt x="20002" y="41272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4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7280" y="2349360"/>
              <a:ext cx="2376360" cy="3167280"/>
            </a:xfrm>
            <a:custGeom>
              <a:avLst/>
              <a:gdLst>
                <a:gd name="textAreaLeft" fmla="*/ 51480 w 2376360"/>
                <a:gd name="textAreaRight" fmla="*/ 2324880 w 2376360"/>
                <a:gd name="textAreaTop" fmla="*/ 51480 h 3167280"/>
                <a:gd name="textAreaBottom" fmla="*/ 3115800 h 3167280"/>
              </a:gdLst>
              <a:ahLst/>
              <a:rect l="textAreaLeft" t="textAreaTop" r="textAreaRight" b="textAreaBottom"/>
              <a:pathLst>
                <a:path w="21600" h="28788">
                  <a:moveTo>
                    <a:pt x="1598" y="0"/>
                  </a:moveTo>
                  <a:arcTo wR="1598" hR="1598" stAng="16200000" swAng="-5400000"/>
                  <a:lnTo>
                    <a:pt x="0" y="27190"/>
                  </a:lnTo>
                  <a:arcTo wR="1598" hR="1598" stAng="10800000" swAng="-5400000"/>
                  <a:lnTo>
                    <a:pt x="20002" y="28788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3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5960" y="5229360"/>
              <a:ext cx="4149360" cy="368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Regional Activities, such as Jambo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1240" y="2276640"/>
            <a:ext cx="8348760" cy="3097800"/>
            <a:chOff x="471240" y="2276640"/>
            <a:chExt cx="8348760" cy="3097800"/>
          </a:xfrm>
        </p:grpSpPr>
        <p:sp>
          <p:nvSpPr>
            <p:cNvPr id="87" name=""/>
            <p:cNvSpPr/>
            <p:nvPr/>
          </p:nvSpPr>
          <p:spPr>
            <a:xfrm flipH="1">
              <a:off x="5003640" y="4797360"/>
              <a:ext cx="2160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476000" y="4797360"/>
              <a:ext cx="11509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2920" y="2565360"/>
              <a:ext cx="7705800" cy="1224000"/>
            </a:xfrm>
            <a:custGeom>
              <a:avLst/>
              <a:gdLst>
                <a:gd name="textAreaLeft" fmla="*/ 0 w 7705800"/>
                <a:gd name="textAreaRight" fmla="*/ 7706160 w 770580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8" y="0"/>
                  </a:lnTo>
                  <a:lnTo>
                    <a:pt x="21600" y="10800"/>
                  </a:lnTo>
                  <a:lnTo>
                    <a:pt x="199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4200" y="2276640"/>
              <a:ext cx="2294640" cy="6426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Specific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1240" y="2924280"/>
              <a:ext cx="21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  <a:ea typeface="ＭＳ Ｐゴシック"/>
                </a:rPr>
                <a:t>Working Group Ch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76360" y="3357720"/>
              <a:ext cx="71992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76360" y="3573360"/>
              <a:ext cx="53276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6360" y="4149720"/>
              <a:ext cx="71992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365720"/>
              <a:ext cx="73436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3860640"/>
              <a:ext cx="7705800" cy="360360"/>
            </a:xfrm>
            <a:custGeom>
              <a:avLst/>
              <a:gdLst>
                <a:gd name="textAreaLeft" fmla="*/ 0 w 7705800"/>
                <a:gd name="textAreaRight" fmla="*/ 7706160 w 77058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8" y="0"/>
                  </a:lnTo>
                  <a:lnTo>
                    <a:pt x="21600" y="10800"/>
                  </a:lnTo>
                  <a:lnTo>
                    <a:pt x="199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6360" y="4581360"/>
              <a:ext cx="5400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7080" y="4797360"/>
              <a:ext cx="19429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76360" y="5013360"/>
              <a:ext cx="5400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440" y="503712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  <a:ea typeface="ＭＳ Ｐゴシック"/>
                </a:rPr>
                <a:t>Project L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222160" y="1628640"/>
            <a:ext cx="3944880" cy="3988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ther Development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35280" y="2852640"/>
            <a:ext cx="7308720" cy="2160720"/>
            <a:chOff x="1835280" y="2852640"/>
            <a:chExt cx="7308720" cy="2160720"/>
          </a:xfrm>
        </p:grpSpPr>
        <p:sp>
          <p:nvSpPr>
            <p:cNvPr id="103" name=""/>
            <p:cNvSpPr/>
            <p:nvPr/>
          </p:nvSpPr>
          <p:spPr>
            <a:xfrm>
              <a:off x="1835280" y="3141720"/>
              <a:ext cx="2665440" cy="107928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280"/>
                <a:gd name="textAreaBottom" fmla="*/ 8330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7640" y="3933720"/>
              <a:ext cx="2665440" cy="107964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640"/>
                <a:gd name="textAreaBottom" fmla="*/ 8334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78560" y="2852640"/>
              <a:ext cx="2665440" cy="107964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640"/>
                <a:gd name="textAreaBottom" fmla="*/ 8334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07E-D563-4A50-A726-5BB9AED75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1841040"/>
            <a:ext cx="7846920" cy="3675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We hope you to pay attention upon CE Linux Foru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s a place to meet with your actual custom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s a place to make collaboration with many embedded system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FB6-EB6A-4BBC-8C67-2736F2D84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ticipation to Semiconductor Architecture Provi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user side Linux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F9C-CB58-4B98-8E33-D09D0C2B8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0192400">
            <a:off x="2195280" y="3357720"/>
            <a:ext cx="50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e need the partner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3247920"/>
            <a:ext cx="7316640" cy="3276720"/>
          </a:xfrm>
          <a:custGeom>
            <a:avLst/>
            <a:gdLst/>
            <a:ahLst/>
            <a:rect l="l" t="t" r="r" b="b"/>
            <a:pathLst>
              <a:path w="4609" h="2064">
                <a:moveTo>
                  <a:pt x="4609" y="0"/>
                </a:moveTo>
                <a:lnTo>
                  <a:pt x="0" y="2064"/>
                </a:lnTo>
                <a:lnTo>
                  <a:pt x="4604" y="2061"/>
                </a:lnTo>
                <a:lnTo>
                  <a:pt x="4609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fefefe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6600" y="2639880"/>
            <a:ext cx="8545320" cy="3880080"/>
          </a:xfrm>
          <a:custGeom>
            <a:avLst/>
            <a:gdLst/>
            <a:ahLst/>
            <a:rect l="l" t="t" r="r" b="b"/>
            <a:pathLst>
              <a:path w="5383" h="2444">
                <a:moveTo>
                  <a:pt x="1217" y="2444"/>
                </a:moveTo>
                <a:lnTo>
                  <a:pt x="5378" y="867"/>
                </a:lnTo>
                <a:lnTo>
                  <a:pt x="5383" y="0"/>
                </a:lnTo>
                <a:lnTo>
                  <a:pt x="0" y="2444"/>
                </a:lnTo>
                <a:lnTo>
                  <a:pt x="1217" y="244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611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tic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360" y="5229360"/>
            <a:ext cx="924120" cy="933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69240" y="4653000"/>
            <a:ext cx="2174760" cy="162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150400">
            <a:off x="-247320" y="2344320"/>
            <a:ext cx="9860040" cy="363600"/>
          </a:xfrm>
          <a:custGeom>
            <a:avLst/>
            <a:gdLst>
              <a:gd name="textAreaLeft" fmla="*/ 0 w 9860040"/>
              <a:gd name="textAreaRight" fmla="*/ 9860400 w 98600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1" y="0"/>
                </a:lnTo>
                <a:lnTo>
                  <a:pt x="21600" y="10800"/>
                </a:lnTo>
                <a:lnTo>
                  <a:pt x="186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CE Linux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150400">
            <a:off x="-272880" y="1631880"/>
            <a:ext cx="9505800" cy="792360"/>
          </a:xfrm>
          <a:custGeom>
            <a:avLst/>
            <a:gdLst>
              <a:gd name="textAreaLeft" fmla="*/ 0 w 9505800"/>
              <a:gd name="textAreaRight" fmla="*/ 9506160 w 95058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1" y="0"/>
                </a:lnTo>
                <a:lnTo>
                  <a:pt x="21600" y="10800"/>
                </a:lnTo>
                <a:lnTo>
                  <a:pt x="186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Linux Mai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3640" y="5450040"/>
            <a:ext cx="1728720" cy="1292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65360" y="6021360"/>
            <a:ext cx="253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Product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350200">
            <a:off x="3702960" y="530028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Dedicate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00" y="620640"/>
            <a:ext cx="8569080" cy="5832720"/>
            <a:chOff x="324000" y="620640"/>
            <a:chExt cx="8569080" cy="5832720"/>
          </a:xfrm>
        </p:grpSpPr>
        <p:sp>
          <p:nvSpPr>
            <p:cNvPr id="122" name=""/>
            <p:cNvSpPr/>
            <p:nvPr/>
          </p:nvSpPr>
          <p:spPr>
            <a:xfrm>
              <a:off x="324000" y="1052640"/>
              <a:ext cx="8569080" cy="5400720"/>
            </a:xfrm>
            <a:custGeom>
              <a:avLst/>
              <a:gdLst/>
              <a:ahLst/>
              <a:rect l="l" t="t" r="r" b="b"/>
              <a:pathLst>
                <a:path w="5398" h="3402">
                  <a:moveTo>
                    <a:pt x="0" y="2404"/>
                  </a:moveTo>
                  <a:lnTo>
                    <a:pt x="0" y="3402"/>
                  </a:lnTo>
                  <a:lnTo>
                    <a:pt x="5398" y="953"/>
                  </a:lnTo>
                  <a:lnTo>
                    <a:pt x="5398" y="0"/>
                  </a:lnTo>
                  <a:lnTo>
                    <a:pt x="0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3640" y="3068640"/>
              <a:ext cx="863640" cy="115236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08360" y="2133720"/>
              <a:ext cx="863640" cy="115236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89560" y="1268280"/>
              <a:ext cx="514440" cy="1303560"/>
            </a:xfrm>
            <a:custGeom>
              <a:avLst/>
              <a:gdLst/>
              <a:ahLst/>
              <a:rect l="l" t="t" r="r" b="b"/>
              <a:pathLst>
                <a:path w="324" h="821">
                  <a:moveTo>
                    <a:pt x="0" y="821"/>
                  </a:moveTo>
                  <a:lnTo>
                    <a:pt x="324" y="726"/>
                  </a:lnTo>
                  <a:lnTo>
                    <a:pt x="18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0640"/>
              <a:ext cx="863640" cy="115272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8000" y="537372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42920" y="386064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59280" y="486900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5280" y="465300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4149720"/>
              <a:ext cx="43164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08720" y="3789360"/>
              <a:ext cx="43164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93080" y="299736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35640" y="191628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218280" y="3860640"/>
            <a:ext cx="2388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  <a:ea typeface="ＭＳ Ｐゴシック"/>
              </a:rPr>
              <a:t>OS/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132000" y="2923920"/>
            <a:ext cx="115272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003640" y="2133360"/>
            <a:ext cx="115272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708000" y="2924280"/>
            <a:ext cx="1079640" cy="1944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4000" y="4149360"/>
            <a:ext cx="115236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300720" y="2565360"/>
            <a:ext cx="719280" cy="1295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0131200">
            <a:off x="2003400" y="31032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Generic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235640" y="1125360"/>
            <a:ext cx="1223640" cy="2159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763280" y="3860640"/>
            <a:ext cx="1079640" cy="1944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541440" y="1268280"/>
            <a:ext cx="6337440" cy="1729080"/>
          </a:xfrm>
          <a:prstGeom prst="cloudCallout">
            <a:avLst>
              <a:gd name="adj1" fmla="val 33893"/>
              <a:gd name="adj2" fmla="val 82782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CPU Architecture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Black"/>
                <a:ea typeface="ＭＳ Ｐゴシック"/>
              </a:rPr>
              <a:t>Packaging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627280" y="4220640"/>
            <a:ext cx="719280" cy="12956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E30-7F99-42D2-9B67-582C2E2F3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1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Watch carefully into CELF reg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pan Jamboree (bimonth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 architects to absorb really required solutions from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high level discussion about the embedded Linux and relate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sophisticated intelligence of the processo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page (Japanese / English biling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tree.celinuxforum.org/CelfPubWiki/JapanTechnicalJamboreeGui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4FA-A85C-4CF2-8B64-51A564D31E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2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CELF World Embedded Linux Conferenc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,12 April in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xpand the excitement in Japan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PU Architectures Oriented B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iscuss about the CPU oriented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any of CELF members are anticipating MIPS to host MIPS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BOF ses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9F9-31CB-4539-9862-CACDC5EBA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4149720"/>
            <a:ext cx="280836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3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To enhance scheme to reinforce user side Linux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gether with Toshiba, NEC Electron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789360"/>
            <a:ext cx="4105440" cy="1727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bdf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33720"/>
            <a:ext cx="3168720" cy="2159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500280"/>
            <a:ext cx="8496360" cy="295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3480" y="4467240"/>
            <a:ext cx="23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Us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5157720"/>
            <a:ext cx="2880000" cy="1079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0df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4365720"/>
            <a:ext cx="1655640" cy="1368360"/>
          </a:xfrm>
          <a:prstGeom prst="leftRightArrow">
            <a:avLst>
              <a:gd name="adj1" fmla="val 49880"/>
              <a:gd name="adj2" fmla="val 3051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393372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0320" y="3403440"/>
            <a:ext cx="3256200" cy="337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Open Source Style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3640" y="4057560"/>
            <a:ext cx="811080" cy="8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4BB-3E7D-4176-894C-1DF832E84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Satoru Ueda</cp:lastModifiedBy>
  <dcterms:modified xsi:type="dcterms:W3CDTF">2006-03-20T01:20:36Z</dcterms:modified>
  <cp:revision>1093</cp:revision>
  <dc:subject/>
  <dc:title>PowerPoint Presentation</dc:title>
</cp:coreProperties>
</file>